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324-722D-4E5E-8D36-55DE6FD0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954-7131-44AB-9C10-7886795C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BE1-0E76-47FA-8810-B58598EB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84E-51C8-462C-8E59-96DF4DF9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FDA-D28D-4CA2-BAAC-A442FC2F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192-4D8C-4FF2-B2B8-63B31420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344-381F-4135-B0DC-7C40A00E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29F-C895-4D25-8C76-861E635D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FEE-F3F2-4B33-BB88-35D3088F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208-2576-44FC-A0FE-AF9C329A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7BF-84EB-4D16-A047-E3D54D46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242-9027-4B10-87C2-CC53922B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7101-334F-47A8-A72A-CB043C3D3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048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1:01:58Z</dcterms:created>
  <dc:creator>Colossus User</dc:creator>
  <dc:description/>
  <dc:language>en-US</dc:language>
  <cp:lastModifiedBy>Colossus User</cp:lastModifiedBy>
  <dcterms:modified xsi:type="dcterms:W3CDTF">2010-09-21T21:02:16Z</dcterms:modified>
  <cp:revision>2</cp:revision>
  <dc:subject/>
  <dc:title>Diapositiva 1</dc:title>
</cp:coreProperties>
</file>